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EA7-3067-473A-8167-A1C03358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56F-3287-4116-9657-23ACF51B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999F-305C-4423-87E5-A9DF812C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363-1AED-40BF-BCD5-1E6132AF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A399-66B9-4E88-A997-1C1B6174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A1B-5182-4957-9103-78AD151E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EBD-F0C0-4419-8245-13DC463F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1E83-81F5-440F-B5F1-6100322D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36C-CFAC-400D-B7FA-961F05D9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B67F-8BE2-4533-A836-B4C7DD6A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EAE-E351-4B5B-941B-2FC81791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7BF1-E8D9-405B-8741-39FB120D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EF39-B4A4-4D7F-A6F2-8A649A4F7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4.bp.blogspot.com/_OG3i1o1f67E/Rb4F2xYkssI/AAAAAAAAAAw/xhyAvgBTH30/s320/cswlogo.jpg&amp;imgrefurl=http://proecclesia.blogspot.com/2007_01_01_archive.html&amp;usg=__DvdUY6ev_sjD_pu7DmtRNVckZz4=&amp;h=129&amp;w=250&amp;sz=47&amp;hl=en&amp;start=46&amp;um=1&amp;tbnid=FV6leYUWqXudSM:&amp;tbnh=57&amp;tbnw=111&amp;prev=/images%3Fq%3Dcatholic%2Bschools%2Bweek%2Bposters%26ndsp%3D20%26hl%3Den%26rls%3Dcom.microsoft:en-us%26sa%3DN%26start%3D40%26um%3D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Catholic </a:t>
            </a: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Schools</a:t>
            </a: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 Wee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ebruary 1 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0" y="3809880"/>
            <a:ext cx="176544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1852560" cy="240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05320" y="4114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er Con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Catholic Schools Week"/>
          <p:cNvPicPr/>
          <p:nvPr/>
        </p:nvPicPr>
        <p:blipFill>
          <a:blip r:embed="rId1"/>
          <a:stretch/>
        </p:blipFill>
        <p:spPr>
          <a:xfrm>
            <a:off x="228600" y="2057400"/>
            <a:ext cx="85536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1477800"/>
            <a:ext cx="472428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614520"/>
            <a:ext cx="6705360" cy="59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306440"/>
            <a:ext cx="830592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1600" y="114480"/>
            <a:ext cx="647712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977760"/>
            <a:ext cx="5715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890640"/>
            <a:ext cx="708660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523800"/>
            <a:ext cx="58672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2216160"/>
            <a:ext cx="487692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66880" y="914400"/>
            <a:ext cx="3778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9:48:35Z</dcterms:created>
  <dc:creator>Patrick J. Mooney</dc:creator>
  <dc:description/>
  <dc:language>en-US</dc:language>
  <cp:lastModifiedBy>Patrick J. Mooney</cp:lastModifiedBy>
  <dcterms:modified xsi:type="dcterms:W3CDTF">2010-01-25T21:09:23Z</dcterms:modified>
  <cp:revision>4</cp:revision>
  <dc:subject/>
  <dc:title>Slide 1</dc:title>
</cp:coreProperties>
</file>